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0700-B625-4A26-ABFA-ADDEE3FC3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74E7-EEFE-4E0A-AF8B-7DEA95F294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B095-E967-470C-B442-609F0B30BB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D5ED-4C4D-41FB-8E56-F09C4F5A5A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48C7-2D4F-42D2-AC55-BE9FE6C063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6D07-1404-4030-8842-FA562347D5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5CF-2F2E-40E5-9953-88CA8ACC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772-A1CF-4D54-9A57-D2D7D87C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473-115D-43A0-90EE-F34DF686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0A52-2D24-4713-86A5-6C60B211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2BF7-2FFE-4F9D-AEB0-BB7E8E92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4792-201C-4D2F-ADE4-F606300C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A345-A713-481D-8DE0-9FDB02D2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08D5-C20D-4D17-AB0C-D2C16BB4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563E-8141-4FE7-B36A-0235DC8E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D716-9A52-465A-905F-65403782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8EAB-E04D-4FEB-8AC8-385FA872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43E-5FB3-428F-AED3-6710FBDF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4A35-0ABE-4D10-82D0-7D46CE88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FA2D-F33C-4377-9ED6-2DAAD27F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80B7B-8E77-4644-B2FB-FCB996C6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E22D-747A-4F0E-9F7F-F9424EF1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D3C7-B080-40F6-A95C-79EF3A0D7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204-79CF-42A7-800E-176CF299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DE80-FF75-428B-B8DF-9F337E7E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833-E390-4D40-B0AA-B3B204AC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ACE-33E8-4725-A132-7EF6F1DF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D80-E37A-481D-82B7-ABA1196C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484-C209-49D6-9BA5-126D4DB6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EC6-1EE3-477D-8325-0727C332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926C-61B1-431E-A51A-FE59972E5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FD91-259B-4635-A5B1-1BC228993F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CIVIL RIGH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Supreme Court Case established the Doctrine of “Separate but Equal?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2590920" y="2584440"/>
            <a:ext cx="36543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185760"/>
            <a:ext cx="914400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What political party was established as a response to Desegregatio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2590920" y="2805120"/>
            <a:ext cx="4282920" cy="28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457560" y="228600"/>
            <a:ext cx="98298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at Supreme Court Case abolished the Doctrine of “Separate but Equal?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1523880" y="2960640"/>
            <a:ext cx="570096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185760"/>
            <a:ext cx="914400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ich State’s Governor opposed desegregation by using the National Guar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4019760" cy="2981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5334120" y="2666880"/>
            <a:ext cx="2361960" cy="25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at is segregation that occurs by law calle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2057400" y="2519280"/>
            <a:ext cx="4794120" cy="3591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2-01T13:53:35Z</dcterms:modified>
  <cp:revision>132</cp:revision>
  <dc:subject/>
  <dc:title>D/O: TO EXPLAIN AND IDENTIFY PROBLEMS OF ECONOMICS</dc:title>
</cp:coreProperties>
</file>